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4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DDC3-9465-4D01-B1F3-435489FB8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617-8E74-4DA7-ACB5-62F9DAA4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217B-3BC7-4638-BC47-BA020AC38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0ECD-8F33-4AF2-871A-BDC69D92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8674-F785-430B-8294-8D68BE894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C97E6-04A1-4C3D-9A6C-9BFB97B4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DB67-97B6-4F4D-A969-B6C6BD00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51281-86CF-4943-9D3A-9A5E23C6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25AA7-72B2-4019-93AC-B73550E3D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4488-3C55-4F52-B0B1-C8C41497D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D8D5-1221-455B-9B69-33EEB1A8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B04C-86B4-4B39-9E20-B9F6F2C7D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93F07-779D-4319-BBD5-2E5CD95C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4A93-0C9E-4C40-897B-ACAC840D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5444-ECBC-4EAF-A01A-0BA798B81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DDD23-E2B5-4C45-A1B8-2EFEAFF0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3219-2658-4396-A8ED-7A2D3DE6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2FCA-DA75-4979-9D94-2B9AEBDD6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3466B-C8F8-40ED-A2C3-34F8A42C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57E57-1F88-4B8C-8086-7794C1DDA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23E95-0851-4A2A-9148-96CE6E94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280F80-9193-459A-A252-F5955E02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5CA8-0A3E-4F36-9F90-6E3B2C1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F079-9AE9-409C-820C-F48DC72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79BF9-3F74-43D4-BE6E-0C744D4B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A5264-7593-4E66-BD92-463E97F3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DFE3F-67BB-41B6-ACF7-3459333C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447AE-35EA-40E7-AB1E-971BD1F7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E56D0-2817-40FC-8908-5D5654028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70507-DDF9-45B4-A4F3-336B10A5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049E42-5EA7-4830-8F14-484F62EA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A529B-708A-457F-ABC4-A7663556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91EB3-FADC-4F1D-B5F2-56EB58F5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C7C-B862-450C-B3F6-997E60E4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749C9-9F56-47AD-9D3D-D6D777CAC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380ED-6FAE-443A-8FA9-6419946B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D6F6E-2127-4915-8110-CF5A146B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B43AE-AB9D-4863-AA4F-3A4DBBA2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C9F69-F9BC-4AF8-BCDF-90701EA6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FECB7-22B1-4C94-A138-7BF75C25B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7DD6B-2A16-4E69-ADE9-9684E56A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250EF-BE7E-48BE-9FC9-61E008D1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3EE5A-4984-44DE-8E9E-10E7E767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06BEE-E5E3-41FB-93DA-BE5CE72E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EA3F-45F2-4764-984C-AE23C893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1E9B2-522A-45E1-82E3-1A20B710D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90D40-A4B7-4F2C-A49F-6B4F9F02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F2B558-98C0-4C45-831A-438EAB06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0C5EC0-E1CF-4749-8054-80856213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CB7ABC-78A9-4B39-9D7E-9FB856B77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6799E-BD26-4F3D-A1D1-A04D1C99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D765-0D52-4E09-BADC-6627B3F43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613F6-AA9A-4671-980A-D0870878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141B2-E964-4ABD-A903-248A1088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D2D15-347B-425D-87C2-544AB67D6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1E55-338D-447C-A1FB-8E17CFB5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C7BA17-6A4A-4615-8170-3A04DA64A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C12AA-D942-47FE-8B65-9D547CD4B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134536-A356-4CB4-ACB3-6C605DF5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B430-400C-4D04-ABE0-501B8291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F56D60-3162-4B41-84D0-02522163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E1589-DE33-4DA7-AA9F-2ACFC3A6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21BA5-53F9-4B29-9BDC-F4259A2D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CC5FE-E221-4547-841D-118269A0F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E11DEA-C538-4C98-91A7-6BE5AC35E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B7D0-E68E-4599-A96F-612C4718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351D-5A70-411A-9D75-B6F680D1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A1F67-865F-4DAF-887E-133FCE2D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F5DDE-0A39-4B1D-9570-F123955A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4B8CF-0B86-44BB-9996-B35CF341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F80EEE-EF6E-42F0-BA85-AF88ED56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4165BE-5818-4308-8392-FF07D1AC4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5A706-1BAE-4349-87AE-D381F04E1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5D6384-5726-41C2-BB18-D2CD7E17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E5ED-3EBC-48F2-8FE2-6E020589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F52B98-ECB3-41D8-98D1-A691C3BF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F9368-8B86-4151-AFE9-D0E7DC0F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E32-41D3-4843-8DCE-EA6F4F7F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AB7B35-767E-46A9-9C76-C2F5017E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9C9AF4-A55E-4666-925B-80903872A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055E9-0DA2-4856-8E9A-C9B36858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A73A56-326E-47E2-99AE-2EB1A055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87972-0502-4867-8692-2CAB2277E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214B-2C4D-4B5A-9C4B-231C2033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89859-60D3-4B10-B9CE-EB4E3BC22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1835E-B8F7-41BC-A6E8-F7D13A6757D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6300-DCF7-4532-8D8A-94C186851F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E73A9-8C84-4287-AFDD-2B3B5BDAB2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9A1F7-A800-4FD0-B4F9-38EBE1C64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d85"/>
            </a:gs>
            <a:gs pos="100000">
              <a:srgbClr val="3067d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A70-B551-4685-A623-671A40559C2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7C660-924B-4919-BE0B-BB10AB014F24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classzone.com/cz/get_home.htm?bid=5019&amp;img=re_french_2.gif&amp;url=/books/french_2/book_home.htm&amp;rt=T&amp;state=WI&amp;bn=Discovering+French,+Nouveau!+(Blanc+2)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603360" y="1292400"/>
            <a:ext cx="7997760" cy="1231560"/>
          </a:xfrm>
          <a:prstGeom prst="rect">
            <a:avLst/>
          </a:prstGeom>
          <a:ln w="0">
            <a:noFill/>
          </a:ln>
        </p:spPr>
      </p:pic>
      <p:sp>
        <p:nvSpPr>
          <p:cNvPr id="302" name="WordArt 12"/>
          <p:cNvSpPr txBox="1"/>
          <p:nvPr/>
        </p:nvSpPr>
        <p:spPr>
          <a:xfrm>
            <a:off x="838080" y="3733920"/>
            <a:ext cx="792504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1219320" y="312408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Madame  Barthenhei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Homework: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30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rticipation &amp; Behavior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10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Organization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ssessments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55%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8" name="Picture 4" descr="belgique"/>
          <p:cNvPicPr/>
          <p:nvPr/>
        </p:nvPicPr>
        <p:blipFill>
          <a:blip r:embed="rId2"/>
          <a:stretch/>
        </p:blipFill>
        <p:spPr>
          <a:xfrm>
            <a:off x="5638680" y="457200"/>
            <a:ext cx="2210040" cy="13986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5"/>
          <p:cNvSpPr/>
          <p:nvPr/>
        </p:nvSpPr>
        <p:spPr>
          <a:xfrm>
            <a:off x="6553080" y="19810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a Belgique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wipe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exam in Ju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20% of semester grad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5" descr="Guyane"/>
          <p:cNvPicPr/>
          <p:nvPr/>
        </p:nvPicPr>
        <p:blipFill>
          <a:blip r:embed="rId2"/>
          <a:stretch/>
        </p:blipFill>
        <p:spPr>
          <a:xfrm>
            <a:off x="1905120" y="3276720"/>
            <a:ext cx="4114800" cy="3085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are currently enrolled in eighth grade Frenc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placement recommendation will be made for freshman ye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nch I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nch II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100000"/>
              </a:lnSpc>
              <a:spcBef>
                <a:spcPts val="601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ench III Honor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5" descr="quebec"/>
          <p:cNvPicPr/>
          <p:nvPr/>
        </p:nvPicPr>
        <p:blipFill>
          <a:blip r:embed="rId2"/>
          <a:stretch/>
        </p:blipFill>
        <p:spPr>
          <a:xfrm>
            <a:off x="4876920" y="3733920"/>
            <a:ext cx="3143160" cy="20574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6"/>
          <p:cNvSpPr/>
          <p:nvPr/>
        </p:nvSpPr>
        <p:spPr>
          <a:xfrm>
            <a:off x="5486400" y="45720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 Québe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152280" y="1885680"/>
            <a:ext cx="802656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Middle School travel abroad!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xchange opportunities in Upper Schoo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9" name="Picture 5" descr="Maroc"/>
          <p:cNvPicPr/>
          <p:nvPr/>
        </p:nvPicPr>
        <p:blipFill>
          <a:blip r:embed="rId2"/>
          <a:stretch/>
        </p:blipFill>
        <p:spPr>
          <a:xfrm>
            <a:off x="3657600" y="4572000"/>
            <a:ext cx="1828800" cy="2006640"/>
          </a:xfrm>
          <a:prstGeom prst="rect">
            <a:avLst/>
          </a:prstGeom>
          <a:ln w="0">
            <a:noFill/>
          </a:ln>
        </p:spPr>
      </p:pic>
      <p:sp>
        <p:nvSpPr>
          <p:cNvPr id="340" name="Text Box 6"/>
          <p:cNvSpPr/>
          <p:nvPr/>
        </p:nvSpPr>
        <p:spPr>
          <a:xfrm>
            <a:off x="1600200" y="5638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</a:rPr>
              <a:t>Le Maroc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0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5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courage your student to be an independent learn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ncourage your child to use the on-line resources as well at the Take-Home Tuto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sk how class is going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ntact me with any concern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split dir="in" orient="horz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WordArt 4"/>
          <p:cNvSpPr txBox="1"/>
          <p:nvPr/>
        </p:nvSpPr>
        <p:spPr>
          <a:xfrm>
            <a:off x="2133720" y="1905120"/>
            <a:ext cx="4743360" cy="28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erci à tous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Rectangle 2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ffff"/>
                </a:solidFill>
                <a:uFillTx/>
                <a:latin typeface="Times New Roman"/>
              </a:rPr>
              <a:t>Discovering French Nouveau, Blanc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extboo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Workboo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ake-Home Tuto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6" name="Picture 7" descr="http://www.classzone.com/cz/books/shared/images/books/selection/cvr_french_2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635280"/>
            <a:ext cx="2057400" cy="23227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Rectangle 4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"/>
          <p:cNvPicPr/>
          <p:nvPr/>
        </p:nvPicPr>
        <p:blipFill>
          <a:blip r:embed="rId2"/>
          <a:stretch/>
        </p:blipFill>
        <p:spPr>
          <a:xfrm>
            <a:off x="2057400" y="2209680"/>
            <a:ext cx="5181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3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32448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"/>
          <p:cNvPicPr/>
          <p:nvPr/>
        </p:nvPicPr>
        <p:blipFill>
          <a:blip r:embed="rId1"/>
          <a:stretch/>
        </p:blipFill>
        <p:spPr>
          <a:xfrm>
            <a:off x="2133720" y="1981080"/>
            <a:ext cx="5638680" cy="4229280"/>
          </a:xfrm>
          <a:prstGeom prst="rect">
            <a:avLst/>
          </a:prstGeom>
          <a:ln w="0">
            <a:noFill/>
          </a:ln>
        </p:spPr>
      </p:pic>
      <p:sp>
        <p:nvSpPr>
          <p:cNvPr id="313" name="TextBox 2"/>
          <p:cNvSpPr/>
          <p:nvPr/>
        </p:nvSpPr>
        <p:spPr>
          <a:xfrm>
            <a:off x="1523880" y="68580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ww.usmfrench.wikispaces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775400" cy="3581640"/>
          </a:xfrm>
          <a:prstGeom prst="rect">
            <a:avLst/>
          </a:prstGeom>
          <a:ln w="0">
            <a:noFill/>
          </a:ln>
        </p:spPr>
      </p:pic>
      <p:sp>
        <p:nvSpPr>
          <p:cNvPr id="315" name="TextBox 2"/>
          <p:cNvSpPr/>
          <p:nvPr/>
        </p:nvSpPr>
        <p:spPr>
          <a:xfrm>
            <a:off x="1219320" y="76212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e Por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172200" cy="4629240"/>
          </a:xfrm>
          <a:prstGeom prst="rect">
            <a:avLst/>
          </a:prstGeom>
          <a:ln w="0">
            <a:noFill/>
          </a:ln>
        </p:spPr>
      </p:pic>
      <p:sp>
        <p:nvSpPr>
          <p:cNvPr id="317" name="TextBox 2"/>
          <p:cNvSpPr/>
          <p:nvPr/>
        </p:nvSpPr>
        <p:spPr>
          <a:xfrm>
            <a:off x="1219320" y="6094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ww.wordreferenc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28240" y="137124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ing oral fluenc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Improving written expressio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arning more complex grammar structur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Being prepared for French in the Upper Schoo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pontgard"/>
          <p:cNvPicPr/>
          <p:nvPr/>
        </p:nvPicPr>
        <p:blipFill>
          <a:blip r:embed="rId2"/>
          <a:stretch/>
        </p:blipFill>
        <p:spPr>
          <a:xfrm>
            <a:off x="533520" y="3962520"/>
            <a:ext cx="3733560" cy="25239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5"/>
          <p:cNvSpPr/>
          <p:nvPr/>
        </p:nvSpPr>
        <p:spPr>
          <a:xfrm>
            <a:off x="4572000" y="51055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Franc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-6480" y="225360"/>
            <a:ext cx="778536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-36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istening, speaking, reading &amp; writing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e: videos, internet activities &amp; song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chnology based activiti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4" name="Picture 6" descr="martinique"/>
          <p:cNvPicPr/>
          <p:nvPr/>
        </p:nvPicPr>
        <p:blipFill>
          <a:blip r:embed="rId2"/>
          <a:stretch/>
        </p:blipFill>
        <p:spPr>
          <a:xfrm>
            <a:off x="1676520" y="4503600"/>
            <a:ext cx="3276360" cy="206532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7"/>
          <p:cNvSpPr/>
          <p:nvPr/>
        </p:nvSpPr>
        <p:spPr>
          <a:xfrm>
            <a:off x="5334120" y="48769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Martinique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7" dur="5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5T16:22:10Z</dcterms:created>
  <dc:creator>Computer Services</dc:creator>
  <dc:description/>
  <dc:language>en-US</dc:language>
  <cp:lastModifiedBy>Admin</cp:lastModifiedBy>
  <cp:lastPrinted>1999-09-16T22:16:46Z</cp:lastPrinted>
  <dcterms:modified xsi:type="dcterms:W3CDTF">2009-09-02T18:24:27Z</dcterms:modified>
  <cp:revision>149</cp:revision>
  <dc:subject/>
  <dc:title>8th Grade French</dc:title>
</cp:coreProperties>
</file>